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D71-F3C9-4CAC-A633-9EDBBD68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10D-5911-48D2-A072-700E36F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FD2-EE5E-48F7-8C13-66361A59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804-CA18-4C61-A237-EE097A83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74A-5763-4BDA-9547-C54796C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8AC-506A-40B3-9D64-689AA80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5F3-F967-4EDB-951F-F055C2B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B42-F419-4A11-AD0B-CD5407C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0CC-C329-49EE-AAFC-FB21381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018-F835-4D9E-BF7A-F259BA5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F3C-FC63-4666-8CE9-82B5E64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509-9FBB-448C-874F-0205DE4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647B-8019-4800-9B7A-60BB40CE6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fo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Agence de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Directeur d’ag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Anthony, agence de Biarrit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Jean-Lou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me Christiane (adjoint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04/03/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er, gérer et organiser une équipe (Managem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 CA de l’agence sur sa zone (Commercia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er la banque sur la zone (Im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xer les objectifs et évalu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partir le travail entre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érer le planning des cong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ivre la consommation des budg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ptimiser l’utilisation des res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pôts et éparg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’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uvrir de nouveaux comp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déliser les cli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réd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e crédit immobili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rveiller les risq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aliser des actions de sponsoring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Être présent dans les salons et foire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s relations avec les notables de la z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réun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jours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entreti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gré polyval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aux couver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% 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comptes to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’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prés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ngagements : prêt habitat &lt; 250 000 €, prêt consommation &lt; 10 000 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tournes de frais : 10 000 € / 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tthieu Montaudouin</cp:lastModifiedBy>
  <dcterms:modified xsi:type="dcterms:W3CDTF">2009-06-08T09:42:34Z</dcterms:modified>
  <cp:revision>6</cp:revision>
  <dc:subject/>
  <dc:title>Présentation PowerPoint</dc:title>
</cp:coreProperties>
</file>